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0FC-CFD2-47EC-AE78-624FA0EB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28F-CAAF-4448-8457-92EFD67B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454-7474-45E8-8348-B413C286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7B6-03FB-4166-9187-E1D5DED8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D6CC-5B1B-4710-A2A5-90B016FE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0314-DFFC-4BFD-8F81-B475A63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B5A8-BE28-494E-A3F5-42A6913C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003-0662-4959-A60B-FC8487B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4C28-446B-4033-B8CD-B8331912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55C5-1AF8-4DBF-B34B-87D6C6BC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0A7A-F4D5-4BB9-84F7-A239104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74A-FC8C-4640-8C67-67DF4461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065F-04CB-42EB-BFCC-4EDB6ED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BF3-466B-4F31-8846-AD867334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92F7-FA10-4C66-99E5-0D846279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0011-325D-474F-B579-1B97A7A5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6C9-1B0C-4C38-A4A1-8CABBD6F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E75-4B0B-45C1-A589-CE355FF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930-B40C-4C11-8ADA-087DD6DB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EB8-27AE-49B5-960C-BC621E5B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C7A-66EB-458F-8320-4424089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C97-0F77-4DE2-96B0-3659743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A82-CB2E-4654-8016-A197588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90D-548C-434D-AB12-D9148C3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CF6B-EF77-4693-9869-85912E0ADB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D11-C301-4600-9258-A8D2409B7DE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ometry 1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uesday, September 07, 20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Use angle postul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Classify angles as acute, obtuse or righ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0040" y="198108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BELL WORK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:  Sketch ray TS and ray TB.  What figure did you draw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rade HW (1.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QUIZ FRIDAY-Addition Segment Postulat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gles and Their Measur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:  Lesson 1.4, problems 1-37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ometry 1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ursday, September 09, 20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CTIV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Handwriting"/>
              </a:rPr>
              <a:t>Use angle postulat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Handwriting"/>
              </a:rPr>
              <a:t>Classify angles as acute, obtuse or righ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BELL WORK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: Segment AB = 2m-25.  Segment BC = 5m-10.  Segment AC= 21.  Solve for m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QUIZ-Addition Segment Postulat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gment and Angle Bisec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:   Lesson 1.5, problems 4-24, problems 31-42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urn in NOTEBOOKS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07:40Z</dcterms:created>
  <dc:creator>tstephens</dc:creator>
  <dc:description/>
  <dc:language>en-US</dc:language>
  <cp:lastModifiedBy>tstephens</cp:lastModifiedBy>
  <dcterms:modified xsi:type="dcterms:W3CDTF">2010-09-08T20:34:03Z</dcterms:modified>
  <cp:revision>3</cp:revision>
  <dc:subject/>
  <dc:title>Geometry 1 Tuesday, September 07, 2010</dc:title>
</cp:coreProperties>
</file>